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500-32D1-49ED-832E-7E8592FA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B3B-C3AA-480E-BCAE-3BA65E0B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829-FC28-4B19-A32E-A9449874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7EE-FC32-4CCB-9F9E-1811BD32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BAF-FC81-4EF5-9A03-E943879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00A-30E6-4A42-B478-AEB8476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951-5CE9-4F4B-B891-0B79F26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B0D-30D6-47C3-AC4D-B151C75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24C-DD29-4141-9DCF-958694E0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0E9-2F1D-4AFC-915A-8848711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3AC-D6EC-414F-8C46-CE99CEC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5A7-6B7D-4FD9-9233-A79E403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09E0-2860-4196-AF7C-9184EFB5B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tuart-george-washington-constable-1797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File:Adamstrumbull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enry_Clay_by_Mathew_Brady_1849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IV – American Federalism and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democratic revolu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redients to make a federal 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ists – Washington and Ad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62864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628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lprit who is going to his place of execu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76640"/>
            <a:ext cx="3024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with F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with Britain? (Jay’s Trea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 the front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iskey Rebell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62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9-17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01080" y="17002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97-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14972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with France? (XYZ Re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vy and Napole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e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125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sting egotis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publicans – Jefferson and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52600" cy="47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3480" y="1413000"/>
            <a:ext cx="3826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4480" cy="38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386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284328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6300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War of Independence”1812-18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7201080" cy="4721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286680" y="3914640"/>
            <a:ext cx="28573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620640"/>
            <a:ext cx="3816360" cy="576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26960" y="620640"/>
            <a:ext cx="371340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64911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guerre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1628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Haw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74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81560" y="3571920"/>
            <a:ext cx="4762440" cy="3286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24360" y="1413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mbs bursting in ai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2560" y="0"/>
            <a:ext cx="6121440" cy="416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287880"/>
            <a:ext cx="5148360" cy="357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328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515772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Orleans -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9:27:01Z</dcterms:created>
  <dc:creator>User</dc:creator>
  <dc:description/>
  <dc:language>en-US</dc:language>
  <cp:lastModifiedBy>User</cp:lastModifiedBy>
  <dcterms:modified xsi:type="dcterms:W3CDTF">2010-11-08T00:00:23Z</dcterms:modified>
  <cp:revision>4</cp:revision>
  <dc:subject/>
  <dc:title>Unit IV – American Federalism and Democracy</dc:title>
</cp:coreProperties>
</file>